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02920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3915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17806" y="14383"/>
                </a:lnTo>
                <a:lnTo>
                  <a:pt x="3794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adova1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864240" cy="55213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733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asilica di S.Antonio-Padova,in stile go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adova10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540160" cy="3822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ppella del SS.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dova11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rocifisso di Pietro Annig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dova12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019920" cy="3782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057400"/>
            <a:ext cx="207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co distante è la cappella di S.Giorgio,con affreschi di Altichieri(specie con storie di S.Luci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adova13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ppella delle reliquie di S.Ant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adova14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3589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liquiario nella cappella di S.Antonio con la la lingua incorro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adova15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286000" cy="3943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648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liquiario nella cappella di S.Antonio con il 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adova16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286000" cy="4321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4952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donna Mora del XIV secolo nella Cappella omonima,molto vene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adova17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2286000" cy="3097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ppella con la tomba di S.Ant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adova1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581280" y="2133720"/>
            <a:ext cx="2286000" cy="374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sbiterio ove sono trenta opere di Donatello(famoso il bassorilievo con miracolo della m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adova19" descr=""/>
          <p:cNvPicPr/>
          <p:nvPr/>
        </p:nvPicPr>
        <p:blipFill>
          <a:blip r:embed="rId1"/>
          <a:stretch/>
        </p:blipFill>
        <p:spPr>
          <a:xfrm>
            <a:off x="3657600" y="2590920"/>
            <a:ext cx="2286000" cy="3246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donna del pilastro nella cappella om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adova2" descr=""/>
          <p:cNvPicPr/>
          <p:nvPr/>
        </p:nvPicPr>
        <p:blipFill>
          <a:blip r:embed="rId1"/>
          <a:stretch/>
        </p:blipFill>
        <p:spPr>
          <a:xfrm>
            <a:off x="4908600" y="228600"/>
            <a:ext cx="3851280" cy="5562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orcio delle cupole e dei campan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dova20" descr=""/>
          <p:cNvPicPr/>
          <p:nvPr/>
        </p:nvPicPr>
        <p:blipFill>
          <a:blip r:embed="rId1"/>
          <a:stretch/>
        </p:blipFill>
        <p:spPr>
          <a:xfrm>
            <a:off x="3429000" y="2651040"/>
            <a:ext cx="2286000" cy="1554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acolo del bimbo che parla in ambiente adiacente alla Basilica e alla cappella di S.Gior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dova3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4000320" cy="4983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4038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numento a Gattamelata(1453) di Donat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dova4" descr=""/>
          <p:cNvPicPr/>
          <p:nvPr/>
        </p:nvPicPr>
        <p:blipFill>
          <a:blip r:embed="rId1"/>
          <a:stretch/>
        </p:blipFill>
        <p:spPr>
          <a:xfrm>
            <a:off x="5027760" y="304920"/>
            <a:ext cx="384948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419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sbi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dova5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400068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.Antonio con Gesu Bambino e il gi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dova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76920" y="304920"/>
            <a:ext cx="4000320" cy="470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3886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la con S.Massimiliano Kolbe di Pietro Annig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dova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blioteca anton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dova8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4000680" cy="560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vicella nel museo antoniano di arte sa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dova9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1447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21:08:26Z</dcterms:created>
  <dc:creator>damiano</dc:creator>
  <dc:description/>
  <dc:language>en-US</dc:language>
  <cp:lastModifiedBy>damiano</cp:lastModifiedBy>
  <dcterms:modified xsi:type="dcterms:W3CDTF">2007-05-30T21:21:48Z</dcterms:modified>
  <cp:revision>2</cp:revision>
  <dc:subject/>
  <dc:title>La Basilica di S.Antonio-Padova,in stile gotico</dc:title>
</cp:coreProperties>
</file>