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>
            <a:hlinkClick r:id="" action="ppaction://hlinkshowjump?jump=previousslide"/>
          </p:cNvPr>
          <p:cNvSpPr/>
          <p:nvPr/>
        </p:nvSpPr>
        <p:spPr>
          <a:xfrm>
            <a:off x="5410080" y="6272280"/>
            <a:ext cx="281160" cy="280800"/>
          </a:xfrm>
          <a:custGeom>
            <a:avLst/>
            <a:gdLst>
              <a:gd name="textAreaLeft" fmla="*/ 18000 w 281160"/>
              <a:gd name="textAreaRight" fmla="*/ 263160 w 281160"/>
              <a:gd name="textAreaTop" fmla="*/ 18000 h 280800"/>
              <a:gd name="textAreaBottom" fmla="*/ 262800 h 280800"/>
            </a:gdLst>
            <a:ahLst/>
            <a:rect l="textAreaLeft" t="textAreaTop" r="textAreaRight" b="textAreaBottom"/>
            <a:pathLst>
              <a:path w="21628" h="21600">
                <a:moveTo>
                  <a:pt x="0" y="0"/>
                </a:moveTo>
                <a:lnTo>
                  <a:pt x="21628" y="0"/>
                </a:lnTo>
                <a:lnTo>
                  <a:pt x="21628" y="21600"/>
                </a:lnTo>
                <a:lnTo>
                  <a:pt x="0" y="21600"/>
                </a:lnTo>
                <a:close/>
              </a:path>
              <a:path fill="lightenLess" w="21628" h="21600">
                <a:moveTo>
                  <a:pt x="0" y="0"/>
                </a:moveTo>
                <a:lnTo>
                  <a:pt x="21628" y="0"/>
                </a:lnTo>
                <a:lnTo>
                  <a:pt x="20228" y="1400"/>
                </a:lnTo>
                <a:lnTo>
                  <a:pt x="1400" y="1400"/>
                </a:lnTo>
                <a:close/>
              </a:path>
              <a:path fill="darken" w="21628" h="21600">
                <a:moveTo>
                  <a:pt x="21628" y="0"/>
                </a:moveTo>
                <a:lnTo>
                  <a:pt x="21628" y="21600"/>
                </a:lnTo>
                <a:lnTo>
                  <a:pt x="20228" y="20200"/>
                </a:lnTo>
                <a:lnTo>
                  <a:pt x="20228" y="1400"/>
                </a:lnTo>
                <a:close/>
              </a:path>
              <a:path fill="darkenLess" w="21628" h="21600">
                <a:moveTo>
                  <a:pt x="21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8" y="20200"/>
                </a:lnTo>
                <a:close/>
              </a:path>
              <a:path fill="lighten" w="21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8" h="21600">
                <a:moveTo>
                  <a:pt x="3807" y="10800"/>
                </a:moveTo>
                <a:lnTo>
                  <a:pt x="17820" y="3794"/>
                </a:lnTo>
                <a:lnTo>
                  <a:pt x="1782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>
            <a:hlinkClick r:id="" action="ppaction://hlinkshowjump?jump=nextslide"/>
          </p:cNvPr>
          <p:cNvSpPr/>
          <p:nvPr/>
        </p:nvSpPr>
        <p:spPr>
          <a:xfrm>
            <a:off x="7391520" y="6248520"/>
            <a:ext cx="280800" cy="304560"/>
          </a:xfrm>
          <a:custGeom>
            <a:avLst/>
            <a:gdLst>
              <a:gd name="textAreaLeft" fmla="*/ 18000 w 280800"/>
              <a:gd name="textAreaRight" fmla="*/ 262800 w 280800"/>
              <a:gd name="textAreaTop" fmla="*/ 18000 h 304560"/>
              <a:gd name="textAreaBottom" fmla="*/ 286560 h 304560"/>
            </a:gdLst>
            <a:ahLst/>
            <a:rect l="textAreaLeft" t="textAreaTop" r="textAreaRight" b="textAreaBottom"/>
            <a:pathLst>
              <a:path w="21600" h="23425">
                <a:moveTo>
                  <a:pt x="0" y="0"/>
                </a:moveTo>
                <a:lnTo>
                  <a:pt x="21600" y="0"/>
                </a:lnTo>
                <a:lnTo>
                  <a:pt x="21600" y="23425"/>
                </a:lnTo>
                <a:lnTo>
                  <a:pt x="0" y="23425"/>
                </a:lnTo>
                <a:close/>
              </a:path>
              <a:path fill="lightenLess" w="21600" h="234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25">
                <a:moveTo>
                  <a:pt x="21600" y="0"/>
                </a:moveTo>
                <a:lnTo>
                  <a:pt x="21600" y="23425"/>
                </a:lnTo>
                <a:lnTo>
                  <a:pt x="20200" y="22025"/>
                </a:lnTo>
                <a:lnTo>
                  <a:pt x="20200" y="1400"/>
                </a:lnTo>
                <a:close/>
              </a:path>
              <a:path fill="darkenLess" w="21600" h="23425">
                <a:moveTo>
                  <a:pt x="21600" y="23425"/>
                </a:moveTo>
                <a:lnTo>
                  <a:pt x="0" y="23425"/>
                </a:lnTo>
                <a:lnTo>
                  <a:pt x="1400" y="22025"/>
                </a:lnTo>
                <a:lnTo>
                  <a:pt x="20200" y="22025"/>
                </a:lnTo>
                <a:close/>
              </a:path>
              <a:path fill="lighten" w="21600" h="23425">
                <a:moveTo>
                  <a:pt x="0" y="234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25"/>
                </a:lnTo>
                <a:close/>
              </a:path>
              <a:path fill="darken" w="21600" h="23425">
                <a:moveTo>
                  <a:pt x="3794" y="4706"/>
                </a:moveTo>
                <a:lnTo>
                  <a:pt x="17806" y="11713"/>
                </a:lnTo>
                <a:lnTo>
                  <a:pt x="3794" y="1871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Bourges1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5851440" cy="39895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ttedrale di St.Etienne a Bu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80880" y="1752480"/>
            <a:ext cx="222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sta mirabile cattedrale è la più bella espressione del gotico francese(sec.XIII).A sud di Parigi,è patrimonio dell’umani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ourges2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95480" y="228600"/>
            <a:ext cx="6000840" cy="551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1905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ttedrale di St.Etienne a Bu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ourges3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3733560" cy="241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0" y="1142640"/>
            <a:ext cx="4495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urges:cattedrale di St.Et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ourges4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2590920" y="2133720"/>
            <a:ext cx="4389480" cy="3336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urges:cattedrale di St.Et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ourges5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092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urges:cattedrale di St.Eti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ourges6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809880" y="2438280"/>
            <a:ext cx="1905120" cy="3289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terno della cattedrale di Bou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ourges7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286000" y="236232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ttedrale di Bou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Bourges8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3429000" y="1905120"/>
            <a:ext cx="3029040" cy="400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ourges:vetrata della catted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Bourges10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730920" cy="4222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ttedrale di St.Etienne di Bu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2:30:57Z</dcterms:created>
  <dc:creator>damiano</dc:creator>
  <dc:description/>
  <dc:language>en-US</dc:language>
  <cp:lastModifiedBy>damiano</cp:lastModifiedBy>
  <dcterms:modified xsi:type="dcterms:W3CDTF">2007-05-21T14:08:06Z</dcterms:modified>
  <cp:revision>3</cp:revision>
  <dc:subject/>
  <dc:title>Cattedrale di St.Etienne a Burges</dc:title>
</cp:coreProperties>
</file>