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562720" y="6324480"/>
            <a:ext cx="280800" cy="204840"/>
          </a:xfrm>
          <a:custGeom>
            <a:avLst/>
            <a:gdLst>
              <a:gd name="textAreaLeft" fmla="*/ 12960 w 280800"/>
              <a:gd name="textAreaRight" fmla="*/ 267840 w 2808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9596" h="21600">
                <a:moveTo>
                  <a:pt x="0" y="0"/>
                </a:moveTo>
                <a:lnTo>
                  <a:pt x="29596" y="0"/>
                </a:lnTo>
                <a:lnTo>
                  <a:pt x="29596" y="21600"/>
                </a:lnTo>
                <a:lnTo>
                  <a:pt x="0" y="21600"/>
                </a:lnTo>
                <a:close/>
              </a:path>
              <a:path fill="lightenLess" w="29596" h="21600">
                <a:moveTo>
                  <a:pt x="0" y="0"/>
                </a:moveTo>
                <a:lnTo>
                  <a:pt x="29596" y="0"/>
                </a:lnTo>
                <a:lnTo>
                  <a:pt x="28196" y="1400"/>
                </a:lnTo>
                <a:lnTo>
                  <a:pt x="1400" y="1400"/>
                </a:lnTo>
                <a:close/>
              </a:path>
              <a:path fill="darken" w="29596" h="21600">
                <a:moveTo>
                  <a:pt x="29596" y="0"/>
                </a:moveTo>
                <a:lnTo>
                  <a:pt x="29596" y="21600"/>
                </a:lnTo>
                <a:lnTo>
                  <a:pt x="28196" y="20200"/>
                </a:lnTo>
                <a:lnTo>
                  <a:pt x="28196" y="1400"/>
                </a:lnTo>
                <a:close/>
              </a:path>
              <a:path fill="darkenLess" w="29596" h="21600">
                <a:moveTo>
                  <a:pt x="29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96" y="20200"/>
                </a:lnTo>
                <a:close/>
              </a:path>
              <a:path fill="lighten" w="29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596" h="21600">
                <a:moveTo>
                  <a:pt x="7791" y="10800"/>
                </a:moveTo>
                <a:lnTo>
                  <a:pt x="21804" y="3794"/>
                </a:lnTo>
                <a:lnTo>
                  <a:pt x="218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avio2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1733400" cy="26398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menico Sa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6480" y="2666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sta il 6 m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avio11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133720" y="2438280"/>
            <a:ext cx="4994280" cy="329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sorilievo su urna di S.Domenico Savio:questi dirime una 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avio12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97600" cy="3371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sorilievo su urna:S.Domenico in pregh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avio1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446880" cy="4092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ppellina di S.Domenico Savi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avio14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318456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5791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o di San Giuseppe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vio3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6248520" y="990720"/>
            <a:ext cx="2549520" cy="422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4876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ilica di Maria Ausiliatrice:Torino-Valdo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avio4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15080" cy="3301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no della Basilica di Maria ausili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vio5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39120" cy="325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ilica di Maria Ausili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avio6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527720" y="152280"/>
            <a:ext cx="4308480" cy="5867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3429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dro di S.Domenico Savio su altare del piccolo sant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vio7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575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4724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dro di Maria Ausiliatrice voluto da Don Bosc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avio8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73800" cy="424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rna di Don Bosc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avio9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497560" cy="3668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elebrazione presso l’altare di S.Domenico Savi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avio10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5932440" cy="3989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rna di San Domenico Savio in Basi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21:02:56Z</dcterms:created>
  <dc:creator>damiano</dc:creator>
  <dc:description/>
  <dc:language>en-US</dc:language>
  <cp:lastModifiedBy>damiano</cp:lastModifiedBy>
  <dcterms:modified xsi:type="dcterms:W3CDTF">2007-05-05T21:21:43Z</dcterms:modified>
  <cp:revision>2</cp:revision>
  <dc:subject/>
  <dc:title>Domenico Savio</dc:title>
</cp:coreProperties>
</file>