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715000" y="6348240"/>
            <a:ext cx="281160" cy="2811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Fatima6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971800" y="2743200"/>
            <a:ext cx="3451320" cy="25718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tre pastorelli di Fatima dietro il gre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atima8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724280" y="2209680"/>
            <a:ext cx="3629160" cy="2729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pianata e La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atima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257800" y="685800"/>
            <a:ext cx="3492360" cy="4394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4038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a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atima10" descr=""/>
          <p:cNvPicPr/>
          <p:nvPr/>
        </p:nvPicPr>
        <p:blipFill>
          <a:blip r:embed="rId1"/>
          <a:stretch/>
        </p:blipFill>
        <p:spPr>
          <a:xfrm>
            <a:off x="5241960" y="228600"/>
            <a:ext cx="367344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Basilica con le immagini di Francesco e Giacinta beatificati il 13 maggio 2000 da papa Giovanni Paolo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atima1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52480" y="1295280"/>
            <a:ext cx="5791320" cy="4550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no della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Fatima7" descr=""/>
          <p:cNvPicPr/>
          <p:nvPr/>
        </p:nvPicPr>
        <p:blipFill>
          <a:blip r:embed="rId1"/>
          <a:stretch/>
        </p:blipFill>
        <p:spPr>
          <a:xfrm>
            <a:off x="2846520" y="2400480"/>
            <a:ext cx="3450960" cy="2057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sa di Francesco e Giacinta Ma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atima11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227480" cy="5110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arizione dell’Angelo ai tre pastorelli nel 19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atima13" descr=""/>
          <p:cNvPicPr/>
          <p:nvPr/>
        </p:nvPicPr>
        <p:blipFill>
          <a:blip r:embed="rId1"/>
          <a:stretch/>
        </p:blipFill>
        <p:spPr>
          <a:xfrm>
            <a:off x="4567320" y="304920"/>
            <a:ext cx="426708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809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acinta,Francesco e Lu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atima5" descr=""/>
          <p:cNvPicPr/>
          <p:nvPr/>
        </p:nvPicPr>
        <p:blipFill>
          <a:blip r:embed="rId1"/>
          <a:stretch/>
        </p:blipFill>
        <p:spPr>
          <a:xfrm>
            <a:off x="5705640" y="1295280"/>
            <a:ext cx="279864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4952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tre pastorelli il 13 luglio 1917 alla cova da Iria,dopo la visione dell’inf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atima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609480"/>
            <a:ext cx="2062440" cy="46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34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Basilica di Fa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55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asilica è stata costruita sul luogo delle apparizioni alla Cova da Iria ed è stata consacrata il 7 ottobre 195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atima2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724280" y="2286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733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uore della Ba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" y="2171880"/>
            <a:ext cx="405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ore della Basilica è la cappellina ove è la Madonnina.Essa regge sulla colonna eretta al posto del leccio ove il 13 maggio 1917 apparve la Madonna la prima vo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atima3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238880" y="609480"/>
            <a:ext cx="1428840" cy="3932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10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adonnina di Fa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tima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19920" y="137160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adonnina portata in proc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1:30:46Z</dcterms:created>
  <dc:creator>damiano</dc:creator>
  <dc:description/>
  <dc:language>en-US</dc:language>
  <cp:lastModifiedBy>damiano</cp:lastModifiedBy>
  <dcterms:modified xsi:type="dcterms:W3CDTF">2007-05-01T21:39:05Z</dcterms:modified>
  <cp:revision>3</cp:revision>
  <dc:subject/>
  <dc:title>I tre pastorelli di Fatima dietro il gregge</dc:title>
</cp:coreProperties>
</file>