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santaluciamatera.it/arte_sacra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5867280" y="6324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7543800" y="6324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rId2"/>
          </p:cNvPr>
          <p:cNvSpPr/>
          <p:nvPr/>
        </p:nvSpPr>
        <p:spPr>
          <a:xfrm>
            <a:off x="1290960" y="632448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na ad Arte Sa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Tintpasqua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76720" y="1676520"/>
            <a:ext cx="5603760" cy="43084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05320" y="228600"/>
            <a:ext cx="4952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4920" y="609480"/>
            <a:ext cx="2301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intoretto, pseudonimo di Jacopo Robusti, (Venezia 1518-Venezia 1594),visse e operò sempre a Venezia.Le sue storie del Vecchio e Nuovo Testamento rimangono il più completo ed esauriente racconto pittorico dell’arte cristiana.La sua costante ricerca della luce traduce la sua spiritualità intensa e drammatica.Pittore manierista,è uno dei principali artisti del secondo Cinquec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760" y="5638680"/>
            <a:ext cx="28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posizione(1557).Collez.priv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ntpasqua10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780080" y="152280"/>
            <a:ext cx="4106880" cy="5791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38102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isto davanti a Pilato(1566).Scuola di S.Rocco-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ntpasqua11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981080" y="1981080"/>
            <a:ext cx="5589720" cy="3921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ifissione(1566).Scuola di S.Rocco-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npasqua1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950000" y="228600"/>
            <a:ext cx="3927240" cy="5638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42670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u nel Getsemani(1578).Scuola di S.Rocco-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ntopasqua1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800600" y="228600"/>
            <a:ext cx="4029120" cy="56386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4114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ltima Cena(1578).Scuola di S.Rocco-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ntopasqua1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702320" y="228600"/>
            <a:ext cx="3997080" cy="5638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3809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scensione di Gesu(1578).Scuola di S.Rocco-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ntpasqua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676520" y="1905120"/>
            <a:ext cx="5864040" cy="3921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posizione(1563).Pinacoteca di Brera-Mi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ntpasqua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76520" y="1523880"/>
            <a:ext cx="6030720" cy="4349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ena di Emmaus(1542).Museum of Fine Arts-Buda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intpasqua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52480" y="1447920"/>
            <a:ext cx="5921640" cy="4514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ietà(1559).Galleria dell’Accademia-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intpasqua5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7611840" cy="2949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ù lava i piedi ai discepoli(1547).Museo del Prado-Mad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ntpasqua6" descr=""/>
          <p:cNvPicPr/>
          <p:nvPr/>
        </p:nvPicPr>
        <p:blipFill>
          <a:blip r:embed="rId1"/>
          <a:stretch/>
        </p:blipFill>
        <p:spPr>
          <a:xfrm>
            <a:off x="5624640" y="228600"/>
            <a:ext cx="3289320" cy="5638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44193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zione(1592).S.Giorgio Maggiore-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ntpasqua7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26120" cy="3908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ltima Cena(1592).S.Giorgio Maggiore-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ntpasqua8" descr=""/>
          <p:cNvPicPr/>
          <p:nvPr/>
        </p:nvPicPr>
        <p:blipFill>
          <a:blip r:embed="rId1"/>
          <a:stretch/>
        </p:blipFill>
        <p:spPr>
          <a:xfrm>
            <a:off x="4633920" y="228600"/>
            <a:ext cx="42400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65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ita al Calvario(1566).Scuola di S.Rocco.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ntpasqua9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578560" cy="3851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ronazione di spine(1566).Scuola di S.Rocco-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21:12:38Z</dcterms:created>
  <dc:creator>damiano</dc:creator>
  <dc:description/>
  <dc:language>en-US</dc:language>
  <cp:lastModifiedBy>damiano</cp:lastModifiedBy>
  <dcterms:modified xsi:type="dcterms:W3CDTF">2007-03-26T19:39:20Z</dcterms:modified>
  <cp:revision>6</cp:revision>
  <dc:subject/>
  <dc:title>Deposizione</dc:title>
</cp:coreProperties>
</file>