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5364000" y="6453360"/>
            <a:ext cx="322560" cy="250560"/>
          </a:xfrm>
          <a:custGeom>
            <a:avLst/>
            <a:gdLst>
              <a:gd name="textAreaLeft" fmla="*/ 16200 w 322560"/>
              <a:gd name="textAreaRight" fmla="*/ 306360 w 32256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27798" h="21600">
                <a:moveTo>
                  <a:pt x="0" y="0"/>
                </a:moveTo>
                <a:lnTo>
                  <a:pt x="27798" y="0"/>
                </a:lnTo>
                <a:lnTo>
                  <a:pt x="27798" y="21600"/>
                </a:lnTo>
                <a:lnTo>
                  <a:pt x="0" y="21600"/>
                </a:lnTo>
                <a:close/>
              </a:path>
              <a:path fill="lightenLess" w="27798" h="21600">
                <a:moveTo>
                  <a:pt x="0" y="0"/>
                </a:moveTo>
                <a:lnTo>
                  <a:pt x="27798" y="0"/>
                </a:lnTo>
                <a:lnTo>
                  <a:pt x="26398" y="1400"/>
                </a:lnTo>
                <a:lnTo>
                  <a:pt x="1400" y="1400"/>
                </a:lnTo>
                <a:close/>
              </a:path>
              <a:path fill="darken" w="27798" h="21600">
                <a:moveTo>
                  <a:pt x="27798" y="0"/>
                </a:moveTo>
                <a:lnTo>
                  <a:pt x="27798" y="21600"/>
                </a:lnTo>
                <a:lnTo>
                  <a:pt x="26398" y="20200"/>
                </a:lnTo>
                <a:lnTo>
                  <a:pt x="26398" y="1400"/>
                </a:lnTo>
                <a:close/>
              </a:path>
              <a:path fill="darkenLess" w="27798" h="21600">
                <a:moveTo>
                  <a:pt x="27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8" y="20200"/>
                </a:lnTo>
                <a:close/>
              </a:path>
              <a:path fill="lighten" w="27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8" h="21600">
                <a:moveTo>
                  <a:pt x="6893" y="10800"/>
                </a:moveTo>
                <a:lnTo>
                  <a:pt x="20905" y="3794"/>
                </a:lnTo>
                <a:lnTo>
                  <a:pt x="209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7956720" y="6418440"/>
            <a:ext cx="323640" cy="250560"/>
          </a:xfrm>
          <a:custGeom>
            <a:avLst/>
            <a:gdLst>
              <a:gd name="textAreaLeft" fmla="*/ 16200 w 323640"/>
              <a:gd name="textAreaRight" fmla="*/ 307440 w 32364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27891" h="21600">
                <a:moveTo>
                  <a:pt x="0" y="0"/>
                </a:moveTo>
                <a:lnTo>
                  <a:pt x="27891" y="0"/>
                </a:lnTo>
                <a:lnTo>
                  <a:pt x="27891" y="21600"/>
                </a:lnTo>
                <a:lnTo>
                  <a:pt x="0" y="21600"/>
                </a:lnTo>
                <a:close/>
              </a:path>
              <a:path fill="lightenLess" w="27891" h="21600">
                <a:moveTo>
                  <a:pt x="0" y="0"/>
                </a:moveTo>
                <a:lnTo>
                  <a:pt x="27891" y="0"/>
                </a:lnTo>
                <a:lnTo>
                  <a:pt x="26491" y="1400"/>
                </a:lnTo>
                <a:lnTo>
                  <a:pt x="1400" y="1400"/>
                </a:lnTo>
                <a:close/>
              </a:path>
              <a:path fill="darken" w="27891" h="21600">
                <a:moveTo>
                  <a:pt x="27891" y="0"/>
                </a:moveTo>
                <a:lnTo>
                  <a:pt x="27891" y="21600"/>
                </a:lnTo>
                <a:lnTo>
                  <a:pt x="26491" y="20200"/>
                </a:lnTo>
                <a:lnTo>
                  <a:pt x="26491" y="1400"/>
                </a:lnTo>
                <a:close/>
              </a:path>
              <a:path fill="darkenLess" w="27891" h="21600">
                <a:moveTo>
                  <a:pt x="27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1" y="20200"/>
                </a:lnTo>
                <a:close/>
              </a:path>
              <a:path fill="lighten" w="27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91" h="21600">
                <a:moveTo>
                  <a:pt x="6939" y="3794"/>
                </a:moveTo>
                <a:lnTo>
                  <a:pt x="20952" y="10800"/>
                </a:lnTo>
                <a:lnTo>
                  <a:pt x="69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esa del Purgatorio restaurata a Mat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67080" cy="28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3213000"/>
            <a:ext cx="354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arte superiore della facciata.La chiesa,iniziata nel 1725,di ispirazione barocca,fu portata a termine nel 1747.La facciata è di tipo conve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726080" cy="3165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inti nella cupola con evangelisti e padri della chi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3162240" cy="487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3538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ifi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25764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4259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.Ambrogio nella cup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80000" y="692280"/>
            <a:ext cx="3257640" cy="4876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4043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 Gregorio Mag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3066840" cy="487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4762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e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3257280" cy="4876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4186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 Girol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61240" cy="398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pinti sulla cup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00" y="2276640"/>
            <a:ext cx="4556160" cy="3051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a di Santa 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95640" y="2349360"/>
            <a:ext cx="4876560" cy="32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o con scorcio della cup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2842920" cy="4248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cc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050920" y="2205000"/>
            <a:ext cx="5158080" cy="345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084640" y="260280"/>
            <a:ext cx="3708360" cy="5545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4330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cup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045040" y="260280"/>
            <a:ext cx="3611520" cy="5400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56000" y="2205000"/>
            <a:ext cx="5130720" cy="3435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o a croce gr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2000160"/>
            <a:ext cx="426744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o e presbite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24360" y="2565360"/>
            <a:ext cx="4700520" cy="3148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a cupola in legno a forma ottag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63700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ggera cupola poggia su un tamburo circ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2:01:14Z</dcterms:created>
  <dc:creator>damiano</dc:creator>
  <dc:description/>
  <dc:language>en-US</dc:language>
  <cp:lastModifiedBy>damiano</cp:lastModifiedBy>
  <dcterms:modified xsi:type="dcterms:W3CDTF">2007-06-18T12:01:14Z</dcterms:modified>
  <cp:revision>4</cp:revision>
  <dc:subject/>
  <dc:title>Chiesa del Purgatorio restaurata a Matera</dc:title>
</cp:coreProperties>
</file>