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BC0-9CCF-4B70-8256-4CCE23BF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915-4950-4623-8F6F-E0312725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3D8-CF6E-46FF-B7FD-31739250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018-65AF-4BE8-B273-A0B1C31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6E5-FCEA-469F-8654-ED4FF27F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D68-4636-4FBF-9902-4D7664D5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1EF-7B11-4E97-B29F-1060AE5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06E-9974-4F50-B97E-8346DFC9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639-3E7F-4A17-8291-014388B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C28-C080-477C-8309-B18ADD32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ADF-4EE7-4822-B60F-DDB2251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42A-5AC5-4563-9F85-5575A57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72A-6100-4FBC-9855-7A51BF849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tanellato1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90196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antuario di Fontanel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800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antuario è dedicato alla Madonna del Rosario.Annesso è il convento dei domenica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Fontanellato10" descr=""/>
          <p:cNvPicPr/>
          <p:nvPr/>
        </p:nvPicPr>
        <p:blipFill>
          <a:blip r:embed="rId1"/>
          <a:stretch/>
        </p:blipFill>
        <p:spPr>
          <a:xfrm>
            <a:off x="2666880" y="2157480"/>
            <a:ext cx="3810240" cy="2543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arte superiore della facc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Fontanellato11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3276360" cy="4699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donna del Rosario di Fontanel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7520" y="53323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a lignea del 16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ntanellato2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875040" cy="2940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mune di Fontanel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5334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omune ha 6.000 anime ed è in provincia di Par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ontanellato3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3009960" cy="2060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tanellato:la ro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Fontanellato4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3086280" cy="349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anturio della Madonna del Ro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ontanellato5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43680" cy="341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orno alla Ro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ontanellato6" descr=""/>
          <p:cNvPicPr/>
          <p:nvPr/>
        </p:nvPicPr>
        <p:blipFill>
          <a:blip r:embed="rId1"/>
          <a:stretch/>
        </p:blipFill>
        <p:spPr>
          <a:xfrm>
            <a:off x="5191200" y="228600"/>
            <a:ext cx="357192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3733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cciata e monumento al card.beato Ferrari,molto devoto della Madonna di Fontanel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Fontanellato7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4495680" cy="2989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azza del Sant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ontanellato8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810240" cy="2543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no del Sant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Fontanellato9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2543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organo del Sant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20:58:15Z</dcterms:created>
  <dc:creator>damiano</dc:creator>
  <dc:description/>
  <dc:language>en-US</dc:language>
  <cp:lastModifiedBy>damiano</cp:lastModifiedBy>
  <dcterms:modified xsi:type="dcterms:W3CDTF">2007-06-04T20:58:37Z</dcterms:modified>
  <cp:revision>1</cp:revision>
  <dc:subject/>
  <dc:title>Santuario di Fontanellato</dc:title>
</cp:coreProperties>
</file>