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santaluciamatera.it/arte_sacra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5486400" y="6248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7467480" y="6248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2"/>
          </p:cNvPr>
          <p:cNvSpPr/>
          <p:nvPr/>
        </p:nvSpPr>
        <p:spPr>
          <a:xfrm>
            <a:off x="1142280" y="617220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rna ad Arte Sa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Oviedo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05520" y="1523880"/>
            <a:ext cx="3784320" cy="4318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duta di Ovi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190512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ittà di Oviedo è nella Spagna nord-occidentale,non molto distante da Compost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viedo10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835360" cy="41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velo di Monoppello(Chie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080" y="1790640"/>
            <a:ext cx="504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che il Sacro Velo di Monoppello con cui la Veronica asciugò il volto di Cristo lungo la via del Calvario,è poco conosciuto,ma fondato storicamente.Fu portato in città da un pellegr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viedo2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28616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809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attedrale di Ovi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2860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attedrale è in stile gotico.Vi sono sepolti i membri della della famiglia reale delle Asturie.E’ famosa per la presenza del Sudario che avvolse il capo di Gesù,sopra la sin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viedo3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172200" cy="4111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Sudario nel reliqu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143000"/>
            <a:ext cx="2438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udario,dietro la Croce, non porta impressa nessuna immagine,ma solo macchie di sangue.Scrive l’evangelista S.Giovanni:”Simon Pietro entrò nel sepolcro e vide le bende per terra e il sudario che gli era stato posto sul capo,non per terra con le bende,ma piegato in un luogo a parte”(20,6-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viedo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149640" cy="2103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rca contenente il Su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3623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condo gli antichi documenti,il Sudario fu conservato a Gerusalemme fino al 614.In questo anno la città fu invasa dai Persiani di Cosroe II.Il Sudaio fu perciò trasportato, insieme ad altre reliquie,in Spagna.Oviedo è sul cammino di Santiago di Compost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viedo5" descr=""/>
          <p:cNvPicPr/>
          <p:nvPr/>
        </p:nvPicPr>
        <p:blipFill>
          <a:blip r:embed="rId1"/>
          <a:stretch/>
        </p:blipFill>
        <p:spPr>
          <a:xfrm>
            <a:off x="5450040" y="685800"/>
            <a:ext cx="323676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4419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pinto della Si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0574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la Sindone di Torino è conosciuta in tutto il mondo,non così è capitato per il Sudario di Ovie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viedo6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943600" cy="4219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rino:il Duomo che conserva la cappella della Si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4004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appella fu progettata da Guarino Guarini(sec.XVI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viedo7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644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elo della Sindone a To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viedo8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019920" y="838080"/>
            <a:ext cx="2476440" cy="4826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952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Sacra Sindone in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viedo9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2286000" cy="2765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volto della Si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20:14:50Z</dcterms:created>
  <dc:creator>damiano</dc:creator>
  <dc:description/>
  <dc:language>en-US</dc:language>
  <cp:lastModifiedBy>damiano</cp:lastModifiedBy>
  <dcterms:modified xsi:type="dcterms:W3CDTF">2007-04-27T20:22:26Z</dcterms:modified>
  <cp:revision>2</cp:revision>
  <dc:subject/>
  <dc:title>Veduta di Oviedo</dc:title>
</cp:coreProperties>
</file>